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688F7-1E2B-4BB0-A4F9-58B844D90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926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7926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EDE56-F28A-4EC7-B7D8-F994B5DA5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4120" y="409392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215A2-1A03-4A7B-B9DF-4BACDDA7D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92800" y="190476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72640" y="190476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92800" y="409392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72640" y="409392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0A6F7-39FC-41DD-8923-C7EB5F762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F4806-906A-49B0-A1A9-EA28A7FB53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A82F0-A685-4217-AE2E-12BBA35DFB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14D04-8D1C-417B-B432-A73C117545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F13B6-E6B3-414B-AA28-92BFC4BF21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4170B-C35B-454E-A299-1C3CD0821B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677880"/>
            <a:ext cx="81630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8C71E-A250-40F6-9848-B21064EC31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33D15-8717-4BEF-887B-4D2CF78C26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5602-129A-427D-98C9-0663974E8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974120" y="409392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D4630-CA97-4196-A5C6-3619450F0E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7926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93498-55C6-4D2C-8919-2C04A10DB4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926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7926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D51FF-7BA0-4CC6-9286-AD13EA1BBE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974120" y="409392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93729-1AF4-46CC-AFA4-B3610D9CF8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92800" y="190476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72640" y="190476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92800" y="409392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272640" y="409392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78427-A32E-48A4-98CE-D8C69C5288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C8E20-4EB7-49B6-AA71-C7FBA7A51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919F4-681D-4836-938B-97174A0F3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A8D58-089E-491B-96EF-CBE0F9E22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71200" y="677880"/>
            <a:ext cx="81630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F4FBA-2AD0-40D1-A191-4240955A3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CFF18-F306-444D-8A16-9FAE22BEF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4120" y="409392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8A029-A329-4611-8392-6E454CDF2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7926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C8031-5131-41C7-B276-BA014B374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</p:grpSp>
        <p:sp>
          <p:nvSpPr>
            <p:cNvPr id="62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</p:grpSp>
      <p:sp>
        <p:nvSpPr>
          <p:cNvPr id="64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1c1c1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1c1c1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1ACC-C536-49E3-9952-B7B9BFB2A0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4920" y="6297480"/>
            <a:ext cx="232560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07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1c1c1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1c1c1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3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4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7B57-8FE6-4590-8F77-835D58E4FF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4920" y="6297480"/>
            <a:ext cx="232560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2009880"/>
            <a:ext cx="76788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c1c1c"/>
                </a:solidFill>
                <a:latin typeface="Tahoma"/>
              </a:rPr>
              <a:t>VIA-Elterntraining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505320" y="2819520"/>
            <a:ext cx="487656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Inhalt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190440" indent="-190440"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Besprechung der Hausaufgab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190440" indent="-190440"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Abschlussrund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190440" indent="-190440"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„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Das nehme ich mit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“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 –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Rückblick auf das VIA-Elterntraining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190440" indent="-190440"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Notfallplan für zukünftige Kris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12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979A-A00C-4238-828D-C65763BEB6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7471-71CC-4D8A-A993-610A540DB8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Übungen/Rollenspiele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746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Wie würden Sie beraten?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Eine Mutter schildert Ihnen folgende Problematik: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„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Wenn ich nicht sofort auf die Anliegen meines Sohnes reagiere,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rastet Timo aus. Beispielsweise hat er einen Wutanfall bekommen,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als ich telefoniert habe und nicht sofort in sein Zimmer gekomm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bin, um seine Burg zu bewundern. In seiner Wut hat sich Timo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dann gar nicht mehr unter Kontrolle und regelmäßig gehen Ding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in unserer Wohnung kaputt. Ich weiß nicht, wie ich mit solch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Wutanfällen umgehen soll.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“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B096-C1CC-40AF-8B81-84A20DCEEC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Übungen/Rollenspiele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746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Wie würden Sie beraten?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Ein Vater berichtet von folgender Problematik: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„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Ich kann mich in der Öffentlichkeit nicht auf meine Tochter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verlassen, weil sie einfach nicht hört, wenn ich mit ihr rede oder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sie um etwas bitte. Welchen Umgang mit diesem Problemverhalt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würden Sie mir empfehlen?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“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79400" y="1584000"/>
            <a:ext cx="7678800" cy="94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  <a:ea typeface="Times New Roman"/>
              </a:rPr>
              <a:t>Notfallplan für zukünftige Krisen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  <a:ea typeface="Times New Roman"/>
              </a:rPr>
              <a:t>                                          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971800" y="2860560"/>
            <a:ext cx="5486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  <a:ea typeface="Times New Roman"/>
            </a:endParaRPr>
          </a:p>
        </p:txBody>
      </p:sp>
      <p:sp>
        <p:nvSpPr>
          <p:cNvPr id="245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A332-F985-4A89-90B3-EBC5540A36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1E95-3F1C-4DF2-87A9-DE5EC79E41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Denken Sie an folgende Punkte!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Krisen kommen in allen Familien vor!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Krisen haben Sie in der Vergangenheit bereits bewältigt!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ie werden auch neue Krisen bewältigen!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30ED-E352-4B9A-ABE4-7B6DC1F82E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Tipps für den Fall, dass es schwierig wird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</a:rPr>
              <a:t>Für zu Haus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Erinnern Sie sich an die unterschiedlichen Erziehungsstrategien, die Sie im Rahmen des Elterntrainings kennen gelernt und geübt haben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chauen Sie in die Unterlagen, die Sie im Rahmen des Elterntrainings bearbeitet haben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Überlegen Sie, was die Ursache für die neuen Probleme sind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In welcher Situation tritt das Verhalten auf?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Wie reagieren Sie auf das Verhalten?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Welche Konsequenzen erfährt das Kind durch sein Verhalten?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Warum fällt es Ihnen schwer, konsequent zu sein?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4E21-7FED-40E5-BA61-C4ABB03A01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Tipps für den Fall, dass es schwierig wird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746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Überlegen Sie, was Sie verändern können, zum Beispiel: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Positiven Verhaltensweisen mehr Beachtung schenk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Aufforderungen eindeutiger formulier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Eindeutige Konsequenzen ankündig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Die angekündigten Konsequenzen umsetz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77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prechen Sie mit Ihrem Kind und suchen Sie gemeinsame Lösungswege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Formulieren Sie, wie es Ihnen mit dem Verhalten Ihres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Kindes geht und teilen Sie Ihrem Kind mit, welches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Verhalten Sie erwarten.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tellen Sie gemeinsam neue Regeln und Ziele auf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(gegebenenfalls mit Unterstützung eines Punkteplans)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CD89-A7C8-44A4-A93A-8875A77171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Tipps für den Fall, dass es schwierig wird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7672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uchen Sie sich Unterstützung (Entlastung im Alltag, Beratung für Sie und/oder Ihr Kind)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Vergessen Sie nicht sich selbst. Tanken Sie auf mit Beschäftigungen, die Ihnen Spaß machen.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</a:rPr>
              <a:t>Probleme in der Schul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Halten Sie regelmäßig Kontakt zur Schul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uchen Sie gemeinsam mit den Lehrern nach Lösungswegen (gegebenenfalls auch unter Einbeziehung eines Therapeuten)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A59F-2B41-4985-9CE1-1CB1D3156E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7672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Alles Gute für Sie und Ihr Kind!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79400" y="2009880"/>
            <a:ext cx="76788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Besprechung der Hausaufgabe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15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7B65-655B-433E-BCFE-5E1C563DB8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79400" y="2009880"/>
            <a:ext cx="76788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Abschlussrunde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Gibt es im Zusammenhang mit den Inhalten des Elterntrainings für Sie spezielle Fragen, die offengeblieben sind?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18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99CC-9BB7-45DA-88C5-A3F56426B2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9400" y="2009880"/>
            <a:ext cx="76788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  <a:ea typeface="Times New Roman"/>
              </a:rPr>
              <a:t>Das nehme ich mit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  <a:ea typeface="Times New Roman"/>
              </a:rPr>
              <a:t> 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971800" y="2860560"/>
            <a:ext cx="54864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Rückblick auf das VIA-Elterntraining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21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1B34-1F10-4074-9BCC-247B2B99B1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F462-5F29-4D7E-96BF-8FC86FD250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Brainstorming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tellen Sie sich vor, Sie werden nach den Inhalten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des Elterntrainings gefragt: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Welche Schlagworte fallen Ihnen spontan ein?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Übungen/Rollenspiele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Wie würden Sie beraten?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Eine Mutter schildert Ihnen folgende Problematik: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„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Ich wende mich an Sie, weil ich nicht mehr weiß, wie ich mit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meiner Tochter umgehen soll. Entgegen unserer Vereinbarung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unterstützt sie mich nicht im Alltag. Eigentlich hatten wir folgend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Absprachen getroffen: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c1c1c"/>
                </a:solidFill>
                <a:latin typeface="Tahoma"/>
              </a:rPr>
              <a:t>Anna bringt </a:t>
            </a:r>
            <a:r>
              <a:rPr b="0" i="1" lang="en-US" sz="2000" spc="-1" strike="noStrike">
                <a:solidFill>
                  <a:srgbClr val="1c1c1c"/>
                </a:solidFill>
                <a:latin typeface="Tahoma"/>
              </a:rPr>
              <a:t>die Schmutzwäsche ins Bad, damit sie gewaschen werden kann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c1c1c"/>
                </a:solidFill>
                <a:latin typeface="Tahoma"/>
              </a:rPr>
              <a:t>Anna entsorgt die Joghurtbecher, wenn sie in ihrem Zimmer isst.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Welchen Umgang mit diesem Problemverhalten würden Sie mir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empfehlen?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“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27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7A97-544B-4E99-8D99-C481A58009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8A82-E6A4-4A06-B526-6870FDBB3F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Übungen/Rollenspiele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746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Wie würden Sie beraten?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Eine Mutter schildert Ihnen folgende Problematik: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„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Bei uns zu Hause herrscht eine furchtbar schlechte Stimmung.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Der Ton zwischen meinem Sohn und mir ist durch gegenseitig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Beschuldigungen und Unterstellungen geprägt. Ich habe d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Eindruck, dass ich keinen Zugang mehr zu meinem Sohn finde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Welchen Umgang mit diesem Problemverhalten würden Sie mir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empfehlen?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“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9135-C246-4E0E-9988-2A42E97E9D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Übungen/Rollenspiele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746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Wie würden Sie beraten?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Ein Vater schildert Ihnen folgende Problematik: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„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Die Hausaufgaben sind eine reine Katastrophe. Louis kann nicht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in Ruhe abwarten, bis ich ihm die Aufgaben erklärt habe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Regelmäßig kommt es zu Streit. Dabei verliere auch ich oft di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Geduld. Wenn ich dann losbrülle, eskaliert die Situation und es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funktioniert gar nichts mehr. Welchen Umgang mit diesem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Problemverhalten würden Sie mir empfehlen?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"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B45C-0FBB-4D9C-B652-19BEE8726C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Übungen/Rollenspiele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746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Wie würden Sie beraten?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Ein Vater berichtet: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„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Es wäre uns eine große Hilfe, wenn Jenny regelmäßig jed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Mittag eine viertel Stunde mit dem Hund rausgeht. Wir haben nur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keine Idee, wie wir Jenny hierzu motivieren können. Welche Ide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haben Sie für die Umsetzung dieses Anliegens?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"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3:06:04Z</dcterms:created>
  <dc:creator>Grasmann</dc:creator>
  <dc:description/>
  <dc:language>en-US</dc:language>
  <cp:lastModifiedBy>SZOR01</cp:lastModifiedBy>
  <dcterms:modified xsi:type="dcterms:W3CDTF">2008-10-16T13:15:45Z</dcterms:modified>
  <cp:revision>165</cp:revision>
  <dc:subject/>
  <dc:title>Vereinbarungen für die Gruppe</dc:title>
</cp:coreProperties>
</file>